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F6BC-9261-426F-A6FE-C052B3F82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C009-FED4-4764-8046-BA31239F1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BE67-C799-4D5D-B0A1-2A544E07D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07BD-8EFC-49B2-A51F-C168EC998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3F95-5EDD-414B-B98C-1A508F5C1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4592-80FB-47BC-B5A8-516CFFCD7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FEBD-C057-452C-95A8-7712B82BE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9180-0FEA-4A5A-ADE4-D79644B2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4A4F-72C4-4CCF-98BD-A83E5DD6B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4F4D-1889-4AB6-9737-1825E1331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4DCC-BFC7-475E-ACB1-00F762BAE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9173-B8E3-4D66-ACE3-3C5C4744B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564-C466-4096-9B5F-9C13FB30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"/>
          <p:cNvPicPr/>
          <p:nvPr/>
        </p:nvPicPr>
        <p:blipFill>
          <a:blip r:embed="rId1"/>
          <a:srcRect l="0" t="17975" r="0" b="-658"/>
          <a:stretch/>
        </p:blipFill>
        <p:spPr>
          <a:xfrm>
            <a:off x="457200" y="251460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457200" y="790560"/>
            <a:ext cx="8229600" cy="167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fuel less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172200"/>
            <a:ext cx="609480" cy="33732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400" y="5125320"/>
            <a:ext cx="4516560" cy="109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 BEFORE YOU BEGIN, YOU 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ON  THE POWERPOINT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 AT THE BOTTOM LEFT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YOUR COMPUTER SCRE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91120" y="5943600"/>
            <a:ext cx="609120" cy="608760"/>
            <a:chOff x="4191120" y="5943600"/>
            <a:chExt cx="609120" cy="608760"/>
          </a:xfrm>
        </p:grpSpPr>
        <p:grpSp>
          <p:nvGrpSpPr>
            <p:cNvPr id="46" name=""/>
            <p:cNvGrpSpPr/>
            <p:nvPr/>
          </p:nvGrpSpPr>
          <p:grpSpPr>
            <a:xfrm>
              <a:off x="4191120" y="5943600"/>
              <a:ext cx="608760" cy="608760"/>
              <a:chOff x="4191120" y="5943600"/>
              <a:chExt cx="608760" cy="608760"/>
            </a:xfrm>
          </p:grpSpPr>
          <p:sp>
            <p:nvSpPr>
              <p:cNvPr id="47" name=""/>
              <p:cNvSpPr/>
              <p:nvPr/>
            </p:nvSpPr>
            <p:spPr>
              <a:xfrm>
                <a:off x="4495320" y="6348960"/>
                <a:ext cx="0" cy="20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292640" y="6552360"/>
                <a:ext cx="406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91120" y="5943600"/>
                <a:ext cx="608760" cy="405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191120" y="5943600"/>
              <a:ext cx="609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96600" y="6091200"/>
              <a:ext cx="355320" cy="7416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990720"/>
            <a:ext cx="800100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o directs the Distribution Company to replenish forward support company (FSC) Class III (B) stock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79246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Name three of the four computation methods SPOs can use to compute bulk fuel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590920"/>
            <a:ext cx="8001000" cy="3682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B.  BSB SPO           ELO A        FMI 4-09.1           Slides 14 &amp;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14800"/>
            <a:ext cx="7772400" cy="642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 Equipment Consumption – computes a unit’s requirements based on the unit’s equipment, hours, and dista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4738680"/>
            <a:ext cx="647676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at Profile – hourly usage rates for comba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5105520"/>
            <a:ext cx="647676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ons-per-Person-per-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91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E    FM 4-20      Slide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5987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ment Brigade SPO/D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gade Support Battalion (BSB)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B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5486400"/>
            <a:ext cx="647676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Data – if appropriate data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6477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14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Which of the following bulk fuel support actions would you as the SPO plan to implement in support of offensive operations/defensive operations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553080" y="1798560"/>
          <a:ext cx="2133720" cy="45259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83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914400" y="1828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6324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0574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l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8335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el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581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build up fuel in forward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956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use LOGPAC re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5410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use ROM operations to refuel comba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78120"/>
            <a:ext cx="5715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for increased fuel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for decreased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build up fuel in forward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use LOGPAC re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use ROM operations to refuel combat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144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Which of the following fuel support actions would you as the SPO plan to implement in support of offensive operations/defensive operations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53080" y="1798560"/>
          <a:ext cx="2133720" cy="3773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5638680" y="5638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Slides 28 &amp;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56272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828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641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95680" cy="373392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 ANY SLIDES TO ENSURE THAT YOU UNDERST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 SUPPORT FUNDAMEN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ION, CAPABILITIES, AND  EMPLOYMENT OF MODULAR FUEL SUPPORT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 DISTRIBUTION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ING CONSIDERATIONS FOR BULK FUEL STORAGE AND DISTRIBUTI0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 SUPPORT OPERATIONS IN THE CONTEMPORARY OPERATING ENVIRONMENT (CO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23689" t="18041" r="1311" b="14762"/>
          <a:stretch/>
        </p:blipFill>
        <p:spPr>
          <a:xfrm>
            <a:off x="5075280" y="1600200"/>
            <a:ext cx="3382920" cy="2322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380880"/>
            <a:ext cx="80773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HECKS ON LEARNING FOR THE FUEL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6172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5486400"/>
            <a:ext cx="441936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ONTINUE ON TO THE NEXT LESSON OF YOUR SUPPORT OPERTIONS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53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76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743200"/>
            <a:ext cx="82296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fuel will be issued based on priorities established by the 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________ coordinates resupply of bulk fuel to the FSCs and the BSB Distribution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coordinate the refueling site and quantity of issue for maneuver or other supporte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 forecast fuel requirements for the HB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64771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8229600" cy="175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PLANNERS AND MANAGERS:  Who is responsible for the following actions?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rom this list to fill in the blank li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B SPO       HBCT S4        HBCT S4 and BSB SPO      FSC CP &amp; BN S4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362320"/>
            <a:ext cx="81532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36232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fuel will be issued based on priorities established by the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BCT S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SB S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ordinates resupply of bulk fuel to the FSCs and the BSB Distribution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SC CP and BN S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ordinate the refueling site and quantity of issue for the maneuver and other supporte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BCT S4 &amp; BSB S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ecast fuel requirements for the HB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66680"/>
            <a:ext cx="8229600" cy="1334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FUEL PLANNERS AND MANAGERS:  Who is responsible for the following actions?  Select from this lis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B SPO       HBCT S4        HBCT S4 &amp; BSB SPO         FSC CP &amp; BN S4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6477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           FMI 4-90.1        Slid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920" y="6491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79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ich BSB company provides bulk fuel to the heavy brigade combat team (HBCT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03_v1-1_tf07" descr=""/>
          <p:cNvPicPr/>
          <p:nvPr/>
        </p:nvPicPr>
        <p:blipFill>
          <a:blip r:embed="rId1"/>
          <a:srcRect l="0" t="8002" r="0" b="0"/>
          <a:stretch/>
        </p:blipFill>
        <p:spPr>
          <a:xfrm>
            <a:off x="3429000" y="3581280"/>
            <a:ext cx="53341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806400" y="1600200"/>
            <a:ext cx="7391520" cy="1742400"/>
            <a:chOff x="806400" y="1600200"/>
            <a:chExt cx="7391520" cy="1742400"/>
          </a:xfrm>
        </p:grpSpPr>
        <p:sp>
          <p:nvSpPr>
            <p:cNvPr id="68" name=""/>
            <p:cNvSpPr/>
            <p:nvPr/>
          </p:nvSpPr>
          <p:spPr>
            <a:xfrm>
              <a:off x="806400" y="1600200"/>
              <a:ext cx="7391520" cy="173988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1143000" y="1866960"/>
            <a:ext cx="6781680" cy="106056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43000" y="1866960"/>
                      <a:ext cx="678168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2165400" y="275904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05720" y="274320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600" y="282240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2520" y="1952640"/>
              <a:ext cx="114300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3520" y="304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391520" y="4267080"/>
            <a:ext cx="1477440" cy="2031840"/>
            <a:chOff x="7391520" y="4267080"/>
            <a:chExt cx="1477440" cy="2031840"/>
          </a:xfrm>
        </p:grpSpPr>
        <p:sp>
          <p:nvSpPr>
            <p:cNvPr id="77" name=""/>
            <p:cNvSpPr/>
            <p:nvPr/>
          </p:nvSpPr>
          <p:spPr>
            <a:xfrm>
              <a:off x="7467480" y="4267080"/>
              <a:ext cx="1401480" cy="203184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1520" y="4419360"/>
              <a:ext cx="233280" cy="35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5486040"/>
              <a:ext cx="291960" cy="254160"/>
            </a:xfrm>
            <a:prstGeom prst="rightArrow">
              <a:avLst>
                <a:gd name="adj1" fmla="val 50000"/>
                <a:gd name="adj2" fmla="val 28718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52280" y="579132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FMI 4-9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 18 &amp;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74200" y="632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19920" y="1722600"/>
          <a:ext cx="2666880" cy="45255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33520" y="990720"/>
            <a:ext cx="81532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TRUE or FALSE?  The BSB SPO establishes standard bulk fuel push requirement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75248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 fuel distribu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100%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pply turn aroun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a single fuel battl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 fuel storage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22440" y="63244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990720"/>
            <a:ext cx="8153280" cy="64260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TRUE or FALSE?  The BSB SPO establishes standard bulk fuel push requirements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5248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 fuel distribu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100%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pply turn aroun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a single fuel battl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 fuel storage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67280" y="1722600"/>
          <a:ext cx="1905120" cy="452592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38080" y="64008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  FMI 4-90.1          Slide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2971800"/>
            <a:ext cx="91440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0" t="4778" r="0" b="36787"/>
          <a:stretch/>
        </p:blipFill>
        <p:spPr>
          <a:xfrm>
            <a:off x="76320" y="1665360"/>
            <a:ext cx="8534160" cy="4659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How would you use arrows to complete this illustration of bulk fuel distrib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3657600"/>
            <a:ext cx="3049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733920"/>
            <a:ext cx="15228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581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733920"/>
            <a:ext cx="15228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971800"/>
            <a:ext cx="7621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2895480"/>
            <a:ext cx="15228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581280"/>
            <a:ext cx="7596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66680" y="2596680"/>
            <a:ext cx="4038840" cy="1137240"/>
            <a:chOff x="1066680" y="2596680"/>
            <a:chExt cx="4038840" cy="1137240"/>
          </a:xfrm>
        </p:grpSpPr>
        <p:grpSp>
          <p:nvGrpSpPr>
            <p:cNvPr id="109" name=""/>
            <p:cNvGrpSpPr/>
            <p:nvPr/>
          </p:nvGrpSpPr>
          <p:grpSpPr>
            <a:xfrm>
              <a:off x="1066680" y="2743200"/>
              <a:ext cx="3048120" cy="990720"/>
              <a:chOff x="1066680" y="2743200"/>
              <a:chExt cx="304812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95280" y="2743200"/>
                <a:ext cx="28195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14600" y="3048120"/>
                <a:ext cx="1143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6680" y="3048120"/>
                <a:ext cx="60984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581280" y="2596680"/>
              <a:ext cx="1524240" cy="680040"/>
              <a:chOff x="3581280" y="2596680"/>
              <a:chExt cx="1524240" cy="680040"/>
            </a:xfrm>
          </p:grpSpPr>
          <p:sp>
            <p:nvSpPr>
              <p:cNvPr id="114" name=""/>
              <p:cNvSpPr/>
              <p:nvPr/>
            </p:nvSpPr>
            <p:spPr>
              <a:xfrm>
                <a:off x="3581280" y="3048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854400">
                <a:off x="4266720" y="2666880"/>
                <a:ext cx="60984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24280" y="2819520"/>
                <a:ext cx="381240" cy="380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52880" y="281952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14800" y="27432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1120" y="2666880"/>
                <a:ext cx="228600" cy="152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2971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6022440" y="62485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6852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ment B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6248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0" t="0" r="0" b="35213"/>
          <a:stretch/>
        </p:blipFill>
        <p:spPr>
          <a:xfrm>
            <a:off x="380880" y="1208160"/>
            <a:ext cx="8153640" cy="516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How would you use arrows to complete this illustration of  bulk fuel distrib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6668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1600" y="2666880"/>
            <a:ext cx="2895480" cy="1219320"/>
            <a:chOff x="1371600" y="2666880"/>
            <a:chExt cx="2895480" cy="1219320"/>
          </a:xfrm>
        </p:grpSpPr>
        <p:sp>
          <p:nvSpPr>
            <p:cNvPr id="130" name=""/>
            <p:cNvSpPr/>
            <p:nvPr/>
          </p:nvSpPr>
          <p:spPr>
            <a:xfrm>
              <a:off x="1523880" y="2666880"/>
              <a:ext cx="274320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3048120"/>
              <a:ext cx="68580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590920" y="3048120"/>
              <a:ext cx="144756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343400" y="2514600"/>
            <a:ext cx="838080" cy="533520"/>
            <a:chOff x="4343400" y="2514600"/>
            <a:chExt cx="838080" cy="533520"/>
          </a:xfrm>
        </p:grpSpPr>
        <p:sp>
          <p:nvSpPr>
            <p:cNvPr id="134" name=""/>
            <p:cNvSpPr/>
            <p:nvPr/>
          </p:nvSpPr>
          <p:spPr>
            <a:xfrm>
              <a:off x="4343400" y="2514600"/>
              <a:ext cx="609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8320" y="27432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292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419720" y="2286000"/>
            <a:ext cx="1404000" cy="1371600"/>
            <a:chOff x="4419720" y="2286000"/>
            <a:chExt cx="1404000" cy="1371600"/>
          </a:xfrm>
        </p:grpSpPr>
        <p:sp>
          <p:nvSpPr>
            <p:cNvPr id="138" name=""/>
            <p:cNvSpPr/>
            <p:nvPr/>
          </p:nvSpPr>
          <p:spPr>
            <a:xfrm rot="1379400">
              <a:off x="5105160" y="2971800"/>
              <a:ext cx="68580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2286000"/>
              <a:ext cx="1295280" cy="137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38080" y="64008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  FMI 4-90.1          Slide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39220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ment B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3048120"/>
            <a:ext cx="8001000" cy="368280"/>
          </a:xfrm>
          <a:prstGeom prst="rect">
            <a:avLst/>
          </a:prstGeom>
          <a:solidFill>
            <a:srgbClr val="d3eb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B.  FLE                                       ELO D                  Sli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37160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 Logistics Release Point (L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Logistics Element (F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III Forward Suppl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uel-on-the-Move (ROM)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172200"/>
            <a:ext cx="7467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E.  All of the above.                  ELO C            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Which of the following can function as the lead element of a BSA move, providing responsive fuel support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495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Mission, size, and composition of the supported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6483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733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As a SPO or officer in the Supply and Service Cell of the BSB, what should you consider when planning bulk fuel storage and distribu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moorem2</cp:lastModifiedBy>
  <dcterms:modified xsi:type="dcterms:W3CDTF">2006-01-25T18:59:38Z</dcterms:modified>
  <cp:revision>230</cp:revision>
  <dc:subject/>
  <dc:title>CHECKS ON LEARNING</dc:title>
</cp:coreProperties>
</file>